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20th%20Century%20Fox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FCD-4A73-49E8-9594-875F54EB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AE8A-E176-4415-912E-F63B7DCE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0F0-5AE5-4D1D-83C3-05D704A5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7577-C2C6-4DE6-9718-83C79CA6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5CB-456F-445D-8F64-47EE6C9B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AFE-56DA-4142-8F20-9C299D03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B0DB-CEF2-4063-A97B-03F7CDEF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A8FF-247E-4AB1-B42F-C2782F3A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DD54-D48F-4F43-A47E-E7521791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61E-96BE-4BC3-9D60-7CA27FB6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0EE-165C-4118-902E-D886F4B7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A8F-3646-4F86-B115-32C32B02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91DA-852F-4F28-B2C3-E46A222C4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24.xml"/><Relationship Id="rId11" Type="http://schemas.openxmlformats.org/officeDocument/2006/relationships/slide" Target="slide29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30.xml"/><Relationship Id="rId17" Type="http://schemas.openxmlformats.org/officeDocument/2006/relationships/slide" Target="slide11.xml"/><Relationship Id="rId18" Type="http://schemas.openxmlformats.org/officeDocument/2006/relationships/slide" Target="slide16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31.xml"/><Relationship Id="rId22" Type="http://schemas.openxmlformats.org/officeDocument/2006/relationships/slide" Target="slide12.xml"/><Relationship Id="rId23" Type="http://schemas.openxmlformats.org/officeDocument/2006/relationships/slide" Target="slide17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" Target="slide32.xml"/><Relationship Id="rId27" Type="http://schemas.openxmlformats.org/officeDocument/2006/relationships/slide" Target="slide13.xml"/><Relationship Id="rId28" Type="http://schemas.openxmlformats.org/officeDocument/2006/relationships/slide" Target="slide18.xml"/><Relationship Id="rId29" Type="http://schemas.openxmlformats.org/officeDocument/2006/relationships/slide" Target="slide23.xml"/><Relationship Id="rId30" Type="http://schemas.openxmlformats.org/officeDocument/2006/relationships/slide" Target="slide28.xml"/><Relationship Id="rId31" Type="http://schemas.openxmlformats.org/officeDocument/2006/relationships/slide" Target="slide33.xml"/><Relationship Id="rId32" Type="http://schemas.openxmlformats.org/officeDocument/2006/relationships/audio" Target="../media/whoosh.wav"/><Relationship Id="rId3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20th%20Century%20Fox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380880"/>
            <a:ext cx="6477120" cy="247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5560">
                  <a:solidFill>
                    <a:srgbClr val="000000"/>
                  </a:solidFill>
                  <a:miter/>
                </a:ln>
                <a:noFill/>
                <a:latin typeface="Poor Richard"/>
              </a:rPr>
              <a:t>Tuck Trivia!</a:t>
            </a:r>
            <a:endParaRPr b="0" lang="en-US" sz="4400" spc="1" strike="noStrike">
              <a:ln w="25560">
                <a:solidFill>
                  <a:srgbClr val="000000"/>
                </a:solidFill>
                <a:miter/>
              </a:ln>
              <a:noFill/>
              <a:latin typeface="Poor Richard"/>
              <a:ea typeface="Poor Richard"/>
            </a:endParaRPr>
          </a:p>
        </p:txBody>
      </p:sp>
    </p:spTree>
  </p:cSld>
  <p:transition spd="med">
    <p:random/>
    <p:sndAc>
      <p:stSnd>
        <p:snd r:embed="rId2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long has it been sinc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us Tuck last changed 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earanc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7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Angus carve into the side of the tree with the spr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es Angus make sure that the Tucks are going to live fore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45720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shoots himself with his shot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Tuck say at the end of the story to the toad, that was ironi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4572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rn thing must think it’s go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to live forever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piece of jewelry does Mae wear when she leaves to meet Miles and Jes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Brooc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Mae own that makes a song/noi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usic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Mae hit the stranger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us Tuck’s Shot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does the constable say that Mae might di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allo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es Mae think about living forever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26708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thinks that what’s done is done, and that there’s no use fussing over i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Miles normally work 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Black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3880" y="762120"/>
            <a:ext cx="5486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based on the book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29528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Tuck Everlasting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47920" y="1905120"/>
            <a:ext cx="5562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by Natalie Babbitt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5715000"/>
            <a:ext cx="8991720" cy="9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This game was created by Sal DeFrancesc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23880" y="22860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This game i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med" advTm="7000">
    <p:random/>
    <p:sndAc>
      <p:stSnd>
        <p:snd r:embed="rId2" name="whoosh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 ______ years Miles and Jesse come back ho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does Miles let the fish he caught swim a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572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let it go because Winnie didn’t want to see the fish d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did Miles’s family leave him and how many children did he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41911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left because Miles wasn’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ging in appearance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he had two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sound does Miles use to cover up the noise of the b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excuse does Jesse use to make sure that Winnie didn’t drink the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3809880"/>
            <a:ext cx="6019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said that since the water came up from the ground, it was probably dirty and bad for your heal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 rot="21585600">
            <a:off x="762120" y="342900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08080"/>
                  </a:outerShdw>
                </a:effectLst>
                <a:latin typeface="High Tower Text"/>
              </a:rPr>
              <a:t>Twice Tuck!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08080"/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225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85144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ick a Wag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1219320"/>
            <a:ext cx="6019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old is Jesse when he meets Winnie? (Hint: Both ages. The age he’s stuck at and the age he would be if he didn’t drink the wate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449568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ck: 17                               Didn’t Drink Water: 1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whoosh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16765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does Jesse fall in lov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nie F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what age does Jesse want Winnie to drink the bottle of special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happened to Jesse that would have broken his neck, but didn’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fell out of a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the stranger’s appearance remind Winnie abou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4572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ibbons at her grandpa’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175248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innie Fos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9907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Tuck Everlasting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9907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99072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9907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9907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991720" y="990720"/>
            <a:ext cx="152280" cy="586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28800"/>
            <a:ext cx="17524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gus T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819520"/>
            <a:ext cx="1752480" cy="97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Mae Tuc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809880"/>
            <a:ext cx="175248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les Tu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800600"/>
            <a:ext cx="17524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sse T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842080"/>
            <a:ext cx="175248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Stran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791320"/>
            <a:ext cx="17524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800600"/>
            <a:ext cx="17524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733920"/>
            <a:ext cx="17524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743200"/>
            <a:ext cx="17524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28800"/>
            <a:ext cx="17524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19051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28195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38098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8769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8672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19051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28195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38098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48769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58672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190512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281952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80988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487692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586728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9051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28195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38098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48769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8672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9051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43800" y="28195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38098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48769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43800" y="58672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31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2" name="whoosh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name of the type of deal that the stranger made with the Fost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ackma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the stranger get hit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us Tuck’s Shot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is the stranger related to/knowledgeable about Miles’s wife and ki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4572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ranger’s grandmother was a friend of Mile’s 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75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the stranger plan to do with the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l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219320" y="914400"/>
            <a:ext cx="6705360" cy="2971800"/>
          </a:xfrm>
          <a:prstGeom prst="rect">
            <a:avLst/>
          </a:prstGeom>
          <a:blipFill rotWithShape="0">
            <a:blip r:embed="rId2"/>
            <a:srcRect/>
            <a:stretch/>
          </a:blipFill>
          <a:ln w="21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Jesse is actually 104 and he is stuck at age 17, then how old would Miles really be if he is stuck at age 2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4952880"/>
            <a:ext cx="5715000" cy="1676520"/>
          </a:xfrm>
          <a:prstGeom prst="rect">
            <a:avLst/>
          </a:prstGeom>
          <a:blipFill rotWithShape="0">
            <a:blip r:embed="rId3"/>
            <a:srcRect/>
            <a:stretch/>
          </a:blipFill>
          <a:ln w="21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 would really be 109 years ol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28600"/>
            <a:ext cx="9144000" cy="45720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nal Foster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5410080"/>
            <a:ext cx="1371600" cy="144792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447920"/>
              <a:gd name="textAreaBottom" fmla="*/ 1359000 h 1447920"/>
            </a:gdLst>
            <a:ahLst/>
            <a:rect l="textAreaLeft" t="textAreaTop" r="textAreaRight" b="textAreaBottom"/>
            <a:pathLst>
              <a:path w="21600" h="22802">
                <a:moveTo>
                  <a:pt x="0" y="0"/>
                </a:moveTo>
                <a:lnTo>
                  <a:pt x="21600" y="0"/>
                </a:lnTo>
                <a:lnTo>
                  <a:pt x="21600" y="22802"/>
                </a:lnTo>
                <a:lnTo>
                  <a:pt x="0" y="22802"/>
                </a:lnTo>
                <a:close/>
              </a:path>
              <a:path fill="lightenLess" w="21600" h="22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2">
                <a:moveTo>
                  <a:pt x="21600" y="0"/>
                </a:moveTo>
                <a:lnTo>
                  <a:pt x="21600" y="22802"/>
                </a:lnTo>
                <a:lnTo>
                  <a:pt x="20200" y="21402"/>
                </a:lnTo>
                <a:lnTo>
                  <a:pt x="20200" y="1400"/>
                </a:lnTo>
                <a:close/>
              </a:path>
              <a:path fill="darkenLess" w="21600" h="22802">
                <a:moveTo>
                  <a:pt x="21600" y="22802"/>
                </a:moveTo>
                <a:lnTo>
                  <a:pt x="0" y="22802"/>
                </a:lnTo>
                <a:lnTo>
                  <a:pt x="1400" y="21402"/>
                </a:lnTo>
                <a:lnTo>
                  <a:pt x="20200" y="21402"/>
                </a:lnTo>
                <a:close/>
              </a:path>
              <a:path fill="lighten" w="21600" h="22802">
                <a:moveTo>
                  <a:pt x="0" y="22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2"/>
                </a:lnTo>
                <a:close/>
              </a:path>
              <a:path fill="darken" w="21600" h="22802">
                <a:moveTo>
                  <a:pt x="3794" y="4394"/>
                </a:moveTo>
                <a:lnTo>
                  <a:pt x="17806" y="11401"/>
                </a:lnTo>
                <a:lnTo>
                  <a:pt x="3794" y="18407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whoosh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 rot="20461200">
            <a:off x="272880" y="1803240"/>
            <a:ext cx="8848800" cy="339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7175e"/>
                    </a:gs>
                  </a:gsLst>
                  <a:path path="rect">
                    <a:fillToRect l="50000" t="50000" r="50000" b="50000"/>
                  </a:path>
                </a:gradFill>
                <a:latin typeface="Poor Richard"/>
              </a:rPr>
              <a:t>Thank You For Playing Tuck Trivia!</a:t>
            </a:r>
            <a:endParaRPr b="0" lang="en-US" sz="4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17175e"/>
                  </a:gs>
                </a:gsLst>
                <a:path path="rect">
                  <a:fillToRect l="50000" t="50000" r="50000" b="50000"/>
                </a:path>
              </a:gradFill>
              <a:latin typeface="Poor Richard"/>
              <a:ea typeface="Poor Richard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324480" y="2362320"/>
            <a:ext cx="2590920" cy="12952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random/>
    <p:sndAc>
      <p:stSnd>
        <p:snd r:embed="rId2" name="20th%20Century%20Fox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does Winnie see i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ing, next to a t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sse T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7315200" y="548640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old is Winnie when s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ets the Tu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years 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7315200" y="548640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does Winnie begin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 in lov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sse T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16765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Winnie do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ttle of special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pours it onto the t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1676520"/>
            <a:ext cx="6019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Angus and Mae go back to Treegap, how long had it been since Winnie had died?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(Hint: In Yea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4876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 rot="21585600">
            <a:off x="762120" y="365760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808080"/>
                  </a:outerShdw>
                </a:effectLst>
                <a:latin typeface="High Tower Text"/>
              </a:rPr>
              <a:t>Twice Tuck!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808080"/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84532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ick a Wag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one word that describes Angus Tuck the most?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Hint: Synonym of S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7T21:25:31Z</dcterms:created>
  <dc:creator> </dc:creator>
  <dc:description/>
  <dc:language>en-US</dc:language>
  <cp:lastModifiedBy> </cp:lastModifiedBy>
  <dcterms:modified xsi:type="dcterms:W3CDTF">2010-02-25T23:49:12Z</dcterms:modified>
  <cp:revision>38</cp:revision>
  <dc:subject/>
  <dc:title>PowerPoint Presentation</dc:title>
</cp:coreProperties>
</file>